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235-B84B-4610-A46E-4AE96365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E45-8140-4A92-878C-2FA85EA6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05C-00AD-4234-9EDD-DE648DCB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BDE-0B0D-471E-86E2-A58B1464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45BF-C344-4EA4-94C4-8381E246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24C3-49BF-4446-B8F3-39438D2A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5F2D-391C-418C-A2E3-716C1196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0D0B-85DD-4C20-AA7D-74EC96FA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3785-280E-4732-9089-FAA2DAFD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2DE7-C805-4FB9-AE42-44E3F885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A620-2569-431E-98FE-C7DF57F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8FF-4296-4F94-BA7F-7EF63141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0211-0A51-41BD-8632-93C3BA0D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1C77-66A1-460E-B9F0-A971DA28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8956-87B2-4004-9CBF-310C3CF9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F959-3CDA-46AB-A3D5-7AB76354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92B7-F802-43B2-969B-5AB48101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A19-567C-4E74-AE17-C033A592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F0F-3EBA-4A10-A6F4-0EA88161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60B-CD45-4AFA-85D1-75B02AE3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0B2-F81E-4685-91AA-D8B4841A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5DF-F7B2-43FF-9B45-337A8DE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977-75B0-4FC5-B597-3AEC2A4F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D89-1A1B-463E-BEAE-3C808657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535E-B1CB-4D7A-9314-F9A8BD6FFE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FA5A-E1FD-41E0-943C-819E33BFE7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ellular Respiratio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400" bIns="324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rebs cycle (citric acid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Oxyg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is requir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ccurs in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mitochondr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Carbon dioxide is form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 you get from the Krebs Cycle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4 NADH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quir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curs in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ner folds of mitochond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any folds increase the surface area which in turn provides more room for electron transport cha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lectrons are passed on from NADH and FAD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nto other proteins in the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ntually, all electrons end up wit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xyg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which is at the bottom of the chain. Oxygen also picks hydrogen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form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hemiosmosis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C pumps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rom the matrix into the intermembranous sp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ce the concentration of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greater outside the matrix,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iffuse into the matri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diffuse through ATP synthase chann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P synth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tein channel in inner membrane of mitochond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iffusion of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hrough ATP synthase powers the conversion of ADP into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Overall reac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ps in making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uc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NAD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T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hemiosmosi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TP synth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TAL ATP GAIN per glucose= 3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ycolysis= 2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rebs cycle= 2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C and phosphorylation= 34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erobic vs anaerobi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erobic respi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xygen is PRESENT and is the ultimate electron accep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erobic respi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ergy is produced WITHOUT oxy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cohol fer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tic acid fer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lcohol fermen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ccurs after glycoly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ste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,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arbon dioxide is releas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rom pyruvate to become acetaldehy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, NADH donates electrons to acetaldehyde which then becomes ethanol (alcoho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ried out by bac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d for beer brewing and winemak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ccurs after glycoly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s place in the cytopla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te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ctic acid is produced from pyruv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O carbon dioxi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produc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d by some bacteria and fungi to make cheese and yogu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d by human muscle cells in strenuous circumsta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an cel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724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ycolysi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tic acid fer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not enough oxygen i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s only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st way to get AT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t less ATP per glucose (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used for 1-3 minu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tic acid accumulation causes pain and fatig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837720"/>
            <a:ext cx="46479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ycolysi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eb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xygen is available in the ce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s glucose, fatty acids and amino ac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lower way to get AT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re ATP per glucose (3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used for long periods of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erobic vs anaerobi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1143000" y="-15228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43520" y="-228600"/>
            <a:ext cx="420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re is the energy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Organic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mpounds have energy in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b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aking down a complex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olym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LEASES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nergy is used for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is lost as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ellular respiratio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75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6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TP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+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6" name=""/>
          <p:cNvCxnSpPr>
            <a:stCxn id="165" idx="0"/>
            <a:endCxn id="165" idx="0"/>
          </p:cNvCxnSpPr>
          <p:nvPr/>
        </p:nvCxnSpPr>
        <p:spPr>
          <a:xfrm>
            <a:off x="4876560" y="15998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TP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enosin triphosph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enine + 3 phosph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P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DP + phosph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reacti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LEAS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P + phosph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P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reacti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QUIR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how ATP in your cells is regene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SCUSS AND WR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CAN ATP BE COMPARED WITH A RECHARGEABLE BATTER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2162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How can we use ATP to do work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osphory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phosphate group from ATP is transferred to another molecu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cipient molecule is said to be phosphorylated and is more rea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P is recycled constantly within your bo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orking muscle cell recycles its ATP at a rate of about 10 MILLION MOLECULES PER SECOND!!!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energy is in the bon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do we get energy from foo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ctrons in the food molecules are moved and transfer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re first caught by electron transporters (in this case NA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FAD) which become NADH and FADH once they gain electr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transporters carry the electrons to their final destination (oxyge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releases energy and is used to make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ular respiratio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3 stag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lyco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rebs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 transport chain and oxidative phosphory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lycolysi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xygen requir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s place in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ly releas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small amount of energ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gluc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glucos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2 pyruvic acid molecu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main ph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ergy investment ph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ATP sp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ergy payoff ph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ATP and 2 NADH m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NET G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ATP and 2 NAD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27:18Z</dcterms:created>
  <dc:creator>jayoig</dc:creator>
  <dc:description/>
  <dc:language>en-US</dc:language>
  <cp:lastModifiedBy>jayoig</cp:lastModifiedBy>
  <dcterms:modified xsi:type="dcterms:W3CDTF">2008-11-25T21:25:54Z</dcterms:modified>
  <cp:revision>10</cp:revision>
  <dc:subject/>
  <dc:title>Cellular Respiration</dc:title>
</cp:coreProperties>
</file>